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72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B245B-33D0-408E-8AFF-4F47A7677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18E6C-847A-41BF-8FC5-8C57F1BD2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3CEB6-C30C-4E2E-899B-50C936BBB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17792-6500-49A7-9F7C-1D225ABDD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4CFB2-933A-486F-8B14-2399E50DE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0DBD2-7EB3-48C6-97A3-005F4C0A7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14078-4A8A-404E-9388-A2D21D44C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6E367-62BA-457A-B80B-B4C037C11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4C866-8281-4677-9376-1D91720CB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0DDB4-4314-4A64-81B4-AC45514FD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BB884-B6AB-4A9F-AE69-6EF55F7B1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B8977-477C-4911-A43C-F0F2A8DB0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5A1B-578F-4DCB-9DCA-02DEB315161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ing up to WWI</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art one: Chapters 26 &amp; 2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erialism</a:t>
            </a:r>
            <a:endParaRPr b="0" lang="en-US" sz="4400" spc="-1" strike="noStrike">
              <a:solidFill>
                <a:srgbClr val="000000"/>
              </a:solidFill>
              <a:latin typeface="Calibri"/>
            </a:endParaRPr>
          </a:p>
        </p:txBody>
      </p:sp>
      <p:sp>
        <p:nvSpPr>
          <p:cNvPr id="60" name=""/>
          <p:cNvSpPr txBox="1"/>
          <p:nvPr/>
        </p:nvSpPr>
        <p:spPr>
          <a:xfrm>
            <a:off x="380880" y="1295280"/>
            <a:ext cx="8382240" cy="5105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Europea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he seizure of a country or territory by a stronger countr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Africa, Asi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1850-191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Stronger European countries dominated the political, economic, and social life of weaker countries which led to Europeans trying to control the whole developing world through thi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ces the Europeans go:</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go to developing nations, or nations that they think are “less than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hole African continent (we will talk abou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a (we will talk abou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i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uth Pacific (Southeast Asia, Philippines,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s of Imperialism </a:t>
            </a:r>
            <a:endParaRPr b="0" lang="en-US" sz="4400" spc="-1" strike="noStrike">
              <a:solidFill>
                <a:srgbClr val="000000"/>
              </a:solidFill>
              <a:latin typeface="Calibri"/>
            </a:endParaRPr>
          </a:p>
        </p:txBody>
      </p:sp>
      <p:graphicFrame>
        <p:nvGraphicFramePr>
          <p:cNvPr id="64" name=""/>
          <p:cNvGraphicFramePr/>
          <p:nvPr/>
        </p:nvGraphicFramePr>
        <p:xfrm>
          <a:off x="533520" y="1219320"/>
          <a:ext cx="8229600" cy="5126040"/>
        </p:xfrm>
        <a:graphic>
          <a:graphicData uri="http://schemas.openxmlformats.org/drawingml/2006/table">
            <a:tbl>
              <a:tblPr/>
              <a:tblGrid>
                <a:gridCol w="2743200"/>
                <a:gridCol w="2743200"/>
                <a:gridCol w="2743200"/>
              </a:tblGrid>
              <a:tr h="36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rm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is i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on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ry or territory is governed internally by foreign pow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aliland- East Afri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Colonies- Great Britai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tector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ry or territory w/ it’s own internal gov’t but under the control of an outside pow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iger River Delta- G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ia- G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here of Influenc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a in which outside power claims exclusive investment or trading privileg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beria- US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ng Kong- G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onomic Imperialis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but less-developed country is controlled by a private business rather than other gov’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le Fruit Co. – Pineapple trade- Hawa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Management</a:t>
            </a:r>
            <a:endParaRPr b="0" lang="en-US" sz="4400" spc="-1" strike="noStrike">
              <a:solidFill>
                <a:srgbClr val="000000"/>
              </a:solidFill>
              <a:latin typeface="Calibri"/>
            </a:endParaRPr>
          </a:p>
        </p:txBody>
      </p:sp>
      <p:graphicFrame>
        <p:nvGraphicFramePr>
          <p:cNvPr id="66" name=""/>
          <p:cNvGraphicFramePr/>
          <p:nvPr/>
        </p:nvGraphicFramePr>
        <p:xfrm>
          <a:off x="533520" y="1371600"/>
          <a:ext cx="8229600" cy="4856040"/>
        </p:xfrm>
        <a:graphic>
          <a:graphicData uri="http://schemas.openxmlformats.org/drawingml/2006/table">
            <a:tbl>
              <a:tblPr/>
              <a:tblGrid>
                <a:gridCol w="2743200"/>
                <a:gridCol w="2743200"/>
                <a:gridCol w="2743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direct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rect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 &amp; Institution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l officials in charg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itutions: European-based, but may have local rul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eign officials in charg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itutions: ONLY European, no local law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lf-ru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mit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7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develop future leaders in that count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 natives ‘assimilate’ or adopt the European culture; Paternalism- take care of them in a parental way but give them no righ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ampl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itish- Nigeria, India, Bur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Pacific Island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ance- Somaliland, Vietna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rmany- East Afri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rtugal- Ango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uses of Imperialism in Africa:</a:t>
            </a:r>
            <a:endParaRPr b="0" lang="en-US" sz="4400" spc="-1" strike="noStrike">
              <a:solidFill>
                <a:srgbClr val="000000"/>
              </a:solidFill>
              <a:latin typeface="Calibri"/>
            </a:endParaRPr>
          </a:p>
        </p:txBody>
      </p:sp>
      <p:sp>
        <p:nvSpPr>
          <p:cNvPr id="68" name=""/>
          <p:cNvSpPr txBox="1"/>
          <p:nvPr/>
        </p:nvSpPr>
        <p:spPr>
          <a:xfrm>
            <a:off x="380880" y="1294920"/>
            <a:ext cx="8305920" cy="48308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 Belief in European superiority/ Social Darwinism/ Survival of the fittes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 Missionaries wanted to convert them to Christianity- the RIGHT religion- to rid the lesser peoples of their evil heathenistic way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 “White Man’s Burden”- it was the White man’s job or burden to “Westernize” aka “Civilize”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that made Imperializing in Africa easy:</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Europeans’ technological superiority- the had better weapons than Africans’ outdated weapons (think Machine gun vs. Bow &amp; Arrow?!?)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Easy travel to maintain control- Railroads, cables, steamships – Europeans could travel to center of Africa whereas before it was super har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factors… </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he drug “Quinine” had been developed and could now help protect against Malar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Africans’ disunity- constant local wars- the Europeans played tribes against each ot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uropeans started competing over land in Africa- The more land = the more pwr back in Europe they h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mpetition got super fier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to solve this, they came up wit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rlin Conferenc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o: European leader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at: a meeting of leaders to lay down the rules for the division of Africa among Europeans to keep them from going to w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ere: Berlin, German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en:1884-1885</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y: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y agreed any European country could claim land in Africa by notifying other nations &amp; showing it could control the are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uropean nations divided up the continent w/o consideration to how African groups were distribute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 African representative was there!!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most all of Africa was controlled by Europeans</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fair, righ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or, inferior, weak Africans…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greement still didn’t totally 100% work because conflicts still arose, such 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Napoleon, Europe was nervous about someone trying to take over everything and ruling the world- so they went back to the old way (for a little while).. “Conservatis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Liberals &amp; Radicals (those at the bottom that wanted change) wouldn’t let go of this idea of “freedom” and “Democrac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see if that happe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oer War</a:t>
            </a:r>
            <a:endParaRPr b="0" lang="en-US" sz="4400" spc="-1" strike="noStrike">
              <a:solidFill>
                <a:srgbClr val="000000"/>
              </a:solidFill>
              <a:latin typeface="Calibri"/>
            </a:endParaRPr>
          </a:p>
        </p:txBody>
      </p:sp>
      <p:sp>
        <p:nvSpPr>
          <p:cNvPr id="80" name=""/>
          <p:cNvSpPr txBox="1"/>
          <p:nvPr/>
        </p:nvSpPr>
        <p:spPr>
          <a:xfrm>
            <a:off x="457200" y="1599840"/>
            <a:ext cx="8305920" cy="4800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Boers (Dutch Settlers) vs. Britis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the first modern “total” war between the British and the Boers- fighting over control of South Africa to get diamonds &amp; gol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South Afric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1899</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y: The Boers (Dutch) settled in S. Africa in 1600s – They discovered gold &amp; diamonds- the British wanted it- so they fought! The British won and they still own it today!!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f Imperialism in Africa</a:t>
            </a:r>
            <a:endParaRPr b="0" lang="en-US" sz="4400" spc="-1" strike="noStrike">
              <a:solidFill>
                <a:srgbClr val="000000"/>
              </a:solidFill>
              <a:latin typeface="Calibri"/>
            </a:endParaRPr>
          </a:p>
        </p:txBody>
      </p:sp>
      <p:sp>
        <p:nvSpPr>
          <p:cNvPr id="82" name="PlaceHolder 2"/>
          <p:cNvSpPr>
            <a:spLocks noGrp="1"/>
          </p:cNvSpPr>
          <p:nvPr>
            <p:ph/>
          </p:nvPr>
        </p:nvSpPr>
        <p:spPr>
          <a:xfrm>
            <a:off x="456840" y="114264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Negative Effects</a:t>
            </a:r>
            <a:r>
              <a:rPr b="1" lang="en-US" sz="2400" spc="-1" strike="noStrike">
                <a:solidFill>
                  <a:srgbClr val="000000"/>
                </a:solidFill>
                <a:latin typeface="Calibri"/>
              </a:rPr>
              <a:t>	</a:t>
            </a:r>
            <a:endParaRPr b="0" lang="en-US" sz="2400" spc="-1" strike="noStrike">
              <a:solidFill>
                <a:srgbClr val="000000"/>
              </a:solidFill>
              <a:latin typeface="Calibri"/>
            </a:endParaRPr>
          </a:p>
        </p:txBody>
      </p:sp>
      <p:sp>
        <p:nvSpPr>
          <p:cNvPr id="83" name=""/>
          <p:cNvSpPr txBox="1"/>
          <p:nvPr/>
        </p:nvSpPr>
        <p:spPr>
          <a:xfrm>
            <a:off x="228240" y="1828440"/>
            <a:ext cx="4344840" cy="45306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Africans lost land &amp; independence</a:t>
            </a: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Thousands died from disease (smallpox)</a:t>
            </a: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Famines = starving</a:t>
            </a: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Failed resistance movements</a:t>
            </a: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Breakdown of traditional African culture-&gt; </a:t>
            </a:r>
            <a:endParaRPr b="0" lang="en-US" sz="2000" spc="-1" strike="noStrike">
              <a:solidFill>
                <a:srgbClr val="000000"/>
              </a:solidFill>
              <a:latin typeface="Calibri"/>
            </a:endParaRPr>
          </a:p>
          <a:p>
            <a:pPr lvl="1" marL="735480" indent="-28296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uthority figures replaced</a:t>
            </a:r>
            <a:endParaRPr b="0" lang="en-US" sz="1700" spc="-1" strike="noStrike">
              <a:solidFill>
                <a:srgbClr val="000000"/>
              </a:solidFill>
              <a:latin typeface="Calibri"/>
            </a:endParaRPr>
          </a:p>
          <a:p>
            <a:pPr lvl="1" marL="735480" indent="-28296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en moved away to work</a:t>
            </a:r>
            <a:endParaRPr b="0" lang="en-US" sz="1700" spc="-1" strike="noStrike">
              <a:solidFill>
                <a:srgbClr val="000000"/>
              </a:solidFill>
              <a:latin typeface="Calibri"/>
            </a:endParaRPr>
          </a:p>
          <a:p>
            <a:pPr lvl="1" marL="735480" indent="-28296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estruction of stable societies</a:t>
            </a:r>
            <a:endParaRPr b="0" lang="en-US" sz="1700" spc="-1" strike="noStrike">
              <a:solidFill>
                <a:srgbClr val="000000"/>
              </a:solidFill>
              <a:latin typeface="Calibri"/>
            </a:endParaRPr>
          </a:p>
          <a:p>
            <a:pPr lvl="1" marL="735480" indent="-28296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Identity probs. For Africans</a:t>
            </a:r>
            <a:endParaRPr b="0" lang="en-US" sz="17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 Most harmful: Division of African continent</a:t>
            </a:r>
            <a:endParaRPr b="0" lang="en-US" sz="2000" spc="-1" strike="noStrike">
              <a:solidFill>
                <a:srgbClr val="000000"/>
              </a:solidFill>
              <a:latin typeface="Calibri"/>
            </a:endParaRPr>
          </a:p>
          <a:p>
            <a:pPr lvl="1" marL="735480" indent="-28296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rtificial European boundaires created probs. Still there today</a:t>
            </a:r>
            <a:endParaRPr b="0" lang="en-US" sz="1700" spc="-1" strike="noStrike">
              <a:solidFill>
                <a:srgbClr val="000000"/>
              </a:solidFill>
              <a:latin typeface="Calibri"/>
            </a:endParaRPr>
          </a:p>
        </p:txBody>
      </p:sp>
      <p:sp>
        <p:nvSpPr>
          <p:cNvPr id="84" name="PlaceHolder 3"/>
          <p:cNvSpPr>
            <a:spLocks noGrp="1"/>
          </p:cNvSpPr>
          <p:nvPr>
            <p:ph/>
          </p:nvPr>
        </p:nvSpPr>
        <p:spPr>
          <a:xfrm>
            <a:off x="4647960" y="114264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Positive Effects</a:t>
            </a:r>
            <a:endParaRPr b="0" lang="en-US" sz="2400" spc="-1" strike="noStrike">
              <a:solidFill>
                <a:srgbClr val="000000"/>
              </a:solidFill>
              <a:latin typeface="Calibri"/>
            </a:endParaRPr>
          </a:p>
        </p:txBody>
      </p:sp>
      <p:sp>
        <p:nvSpPr>
          <p:cNvPr id="85" name=""/>
          <p:cNvSpPr txBox="1"/>
          <p:nvPr/>
        </p:nvSpPr>
        <p:spPr>
          <a:xfrm>
            <a:off x="4648320" y="1904760"/>
            <a:ext cx="4114800" cy="4267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Reduced local warfar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Humanitarian efforts improved sanitation &amp; provided hospitals &amp; school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 longer lifespans &amp; increased literacy rat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 African goods became popular in international marke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5. Railroads, dams, &amp; telephone/telegraph lines were buil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itish in India</a:t>
            </a:r>
            <a:endParaRPr b="0" lang="en-US" sz="4400" spc="-1" strike="noStrike">
              <a:solidFill>
                <a:srgbClr val="000000"/>
              </a:solidFill>
              <a:latin typeface="Calibri"/>
            </a:endParaRPr>
          </a:p>
        </p:txBody>
      </p:sp>
      <p:graphicFrame>
        <p:nvGraphicFramePr>
          <p:cNvPr id="87" name=""/>
          <p:cNvGraphicFramePr/>
          <p:nvPr/>
        </p:nvGraphicFramePr>
        <p:xfrm>
          <a:off x="457200" y="1066680"/>
          <a:ext cx="8458200" cy="5361120"/>
        </p:xfrm>
        <a:graphic>
          <a:graphicData uri="http://schemas.openxmlformats.org/drawingml/2006/table">
            <a:tbl>
              <a:tblPr/>
              <a:tblGrid>
                <a:gridCol w="4229280"/>
                <a:gridCol w="4228920"/>
              </a:tblGrid>
              <a:tr h="366120">
                <a:tc>
                  <a:txBody>
                    <a:bodyPr lIns="186120" rIns="18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use</a:t>
                      </a:r>
                      <a:endParaRPr b="0" lang="en-US" sz="1800" spc="-1" strike="noStrike">
                        <a:solidFill>
                          <a:srgbClr val="000000"/>
                        </a:solidFill>
                        <a:latin typeface="Calibri"/>
                      </a:endParaRPr>
                    </a:p>
                  </a:txBody>
                  <a:tcPr anchor="t" marL="186120" marR="186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86120" rIns="18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ffect</a:t>
                      </a:r>
                      <a:endParaRPr b="0" lang="en-US" sz="1800" spc="-1" strike="noStrike">
                        <a:solidFill>
                          <a:srgbClr val="000000"/>
                        </a:solidFill>
                        <a:latin typeface="Calibri"/>
                      </a:endParaRPr>
                    </a:p>
                  </a:txBody>
                  <a:tcPr anchor="t" marL="186120" marR="186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03280">
                <a:tc>
                  <a:txBody>
                    <a:bodyPr lIns="186120" rIns="186120" anchor="t">
                      <a:no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cline of the Mughal Empire </a:t>
                      </a:r>
                      <a:r>
                        <a:rPr b="0" lang="en-US" sz="1800" spc="-1" strike="noStrike">
                          <a:solidFill>
                            <a:srgbClr val="000000"/>
                          </a:solidFill>
                          <a:latin typeface="Calibri"/>
                        </a:rPr>
                        <a:t>(the Islamic dynasty in charge of India) – lotsa small states break away from Mughal control = they are weakened</a:t>
                      </a:r>
                      <a:endParaRPr b="0" lang="en-US" sz="1800" spc="-1" strike="noStrike">
                        <a:solidFill>
                          <a:srgbClr val="000000"/>
                        </a:solidFill>
                        <a:latin typeface="Calibri"/>
                      </a:endParaRPr>
                    </a:p>
                  </a:txBody>
                  <a:tcPr anchor="t" marL="186120" marR="186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86120" rIns="18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1757, The British invade &amp; conquer India- they become the leading power until 1858. </a:t>
                      </a:r>
                      <a:endParaRPr b="0" lang="en-US" sz="1800" spc="-1" strike="noStrike">
                        <a:solidFill>
                          <a:srgbClr val="000000"/>
                        </a:solidFill>
                        <a:latin typeface="Calibri"/>
                      </a:endParaRPr>
                    </a:p>
                  </a:txBody>
                  <a:tcPr anchor="t" marL="186120" marR="186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91720">
                <a:tc>
                  <a:txBody>
                    <a:bodyPr lIns="186120" rIns="18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 Colonial policies-</a:t>
                      </a:r>
                      <a:endParaRPr b="0" lang="en-US" sz="1800" spc="-1" strike="noStrike">
                        <a:solidFill>
                          <a:srgbClr val="000000"/>
                        </a:solidFill>
                        <a:latin typeface="Calibri"/>
                      </a:endParaRPr>
                    </a:p>
                  </a:txBody>
                  <a:tcPr anchor="t" marL="186120" marR="186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86120" rIns="18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Indian economy couldn’t operate on it’s own- Indian goods could not compete with British goods= no local producers, no self-sufficienc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British missionaries &amp; racist attitude = Indian life threaten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Railroads = Indians developed a modern econom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Sanitation &amp; public health improv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Schools &amp; colleges = literacy improv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End to local warfare</a:t>
                      </a:r>
                      <a:endParaRPr b="0" lang="en-US" sz="1800" spc="-1" strike="noStrike">
                        <a:solidFill>
                          <a:srgbClr val="000000"/>
                        </a:solidFill>
                        <a:latin typeface="Calibri"/>
                      </a:endParaRPr>
                    </a:p>
                  </a:txBody>
                  <a:tcPr anchor="t" marL="186120" marR="186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s one super imp. Event that changed GB’s control of Indi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has to do with people called “Sepoy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poys</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Indian soldi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ndian soldiers in the British-led army; resentful of British control, racism, &amp; attempts at conversion so they revol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Indi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1800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 Sepoys revolted in the “Sepoy Mutiny” which led to stricter direct control of the British on India.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poy Mutin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Sepoys vs. Briti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he Hindu &amp; Muslim Sepoys had dietary restrictions but were forced to deal with it – irritated them – rebelled against the Britis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Ind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185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on the “Effect” on the next slid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95" name=""/>
          <p:cNvGraphicFramePr/>
          <p:nvPr/>
        </p:nvGraphicFramePr>
        <p:xfrm>
          <a:off x="457200" y="1600200"/>
          <a:ext cx="8229600" cy="2657520"/>
        </p:xfrm>
        <a:graphic>
          <a:graphicData uri="http://schemas.openxmlformats.org/drawingml/2006/table">
            <a:tbl>
              <a:tblPr/>
              <a:tblGrid>
                <a:gridCol w="4114800"/>
                <a:gridCol w="411480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Cau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Effec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6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oy Mutiny</a:t>
                      </a:r>
                      <a:r>
                        <a:rPr b="0" lang="en-US" sz="1800" spc="-1" strike="noStrike">
                          <a:solidFill>
                            <a:srgbClr val="000000"/>
                          </a:solidFill>
                          <a:latin typeface="Calibri"/>
                        </a:rPr>
                        <a:t>- Sepoys rebelled against Britis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urning point: The British took DIRECT control of India</a:t>
                      </a: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eled the racist attitudes of the British even more</a:t>
                      </a: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reased distrust between the Indians &amp; British</a:t>
                      </a: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ist groups form to try and regain control of India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all Imperialism:</a:t>
            </a:r>
            <a:endParaRPr b="0" lang="en-US" sz="4400" spc="-1" strike="noStrike">
              <a:solidFill>
                <a:srgbClr val="000000"/>
              </a:solidFill>
              <a:latin typeface="Calibri"/>
            </a:endParaRPr>
          </a:p>
        </p:txBody>
      </p:sp>
      <p:graphicFrame>
        <p:nvGraphicFramePr>
          <p:cNvPr id="97" name=""/>
          <p:cNvGraphicFramePr/>
          <p:nvPr/>
        </p:nvGraphicFramePr>
        <p:xfrm>
          <a:off x="457200" y="1600200"/>
          <a:ext cx="8229600" cy="2840040"/>
        </p:xfrm>
        <a:graphic>
          <a:graphicData uri="http://schemas.openxmlformats.org/drawingml/2006/table">
            <a:tbl>
              <a:tblPr/>
              <a:tblGrid>
                <a:gridCol w="4114800"/>
                <a:gridCol w="411480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us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ffec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ationalism</a:t>
                      </a:r>
                      <a:r>
                        <a:rPr b="0" lang="en-US" sz="1800" spc="-1" strike="noStrike">
                          <a:solidFill>
                            <a:srgbClr val="000000"/>
                          </a:solidFill>
                          <a:latin typeface="Calibri"/>
                        </a:rPr>
                        <a:t>- to gain power, European nations compete for colonies &amp; trad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lonization</a:t>
                      </a:r>
                      <a:r>
                        <a:rPr b="0" lang="en-US" sz="1800" spc="-1" strike="noStrike">
                          <a:solidFill>
                            <a:srgbClr val="000000"/>
                          </a:solidFill>
                          <a:latin typeface="Calibri"/>
                        </a:rPr>
                        <a:t>- Europeans control land &amp; peoples in Asia, Africa, &amp; Latin Amer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nomic Competi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and for raw materials &amp; new markets spurs a search for colon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lonial Economies- </a:t>
                      </a:r>
                      <a:r>
                        <a:rPr b="0" lang="en-US" sz="1800" spc="-1" strike="noStrike">
                          <a:solidFill>
                            <a:srgbClr val="000000"/>
                          </a:solidFill>
                          <a:latin typeface="Calibri"/>
                        </a:rPr>
                        <a:t>Europeans control trade in the colonies and set up dependent cash-crop economie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ssionary Spirit- </a:t>
                      </a:r>
                      <a:r>
                        <a:rPr b="0" lang="en-US" sz="1800" spc="-1" strike="noStrike">
                          <a:solidFill>
                            <a:srgbClr val="000000"/>
                          </a:solidFill>
                          <a:latin typeface="Calibri"/>
                        </a:rPr>
                        <a:t>Europeans believe they must spread their Christian teachings to the world.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hristianization</a:t>
                      </a:r>
                      <a:r>
                        <a:rPr b="0" lang="en-US" sz="1800" spc="-1" strike="noStrike">
                          <a:solidFill>
                            <a:srgbClr val="000000"/>
                          </a:solidFill>
                          <a:latin typeface="Calibri"/>
                        </a:rPr>
                        <a:t>- Christianity spreads to Africa, Asia, &amp; India.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we learned with Industrial Revolution- things were changing.. Society, the way things worked, everyth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started having new ideas in science &amp; technology and one idea is SUPER SUPER SUPER import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as created b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Darwin</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English Naturali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he challenged the idea of special creation (that everything was created by God) with his Theory of Evolution &amp; Natural Sele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Englan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1859</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is sparked a controversial debate that still continues today: Creation vs. Ev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ory of Evolution</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o: Charles Darwi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at: A theory that all life evolved from earlier living forms that had existed millions of years ago</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re: England, then the rest of the Western worl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1859</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y: This idea led to “Natural Selection” which emphasized the ‘survival of the fittest’ where those who were the fittest, or best adapted to their environment, would survive and make offspring whereas those who were not the fittest would die out (this led to everything we are about to learn abou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theory will lead to EVERYTHING else we are about to learn abou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it’s a BIG BIG cau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thing it caused was “Social Darwinism” and “Rac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Darwinism</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Europ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an idea that the Theory of Evolution should be applied to society- those that were the “fittest” were wealthy &amp; successful; the “weakest” were poor &amp; not successful- aka Non-Europ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Europe, the rest of the wor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1860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y: This led to “racism” which led to “Imperialism” which led to the World Wa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cism</a:t>
            </a:r>
            <a:endParaRPr b="0" lang="en-US" sz="4400" spc="-1" strike="noStrike">
              <a:solidFill>
                <a:srgbClr val="000000"/>
              </a:solidFill>
              <a:latin typeface="Calibri"/>
            </a:endParaRPr>
          </a:p>
        </p:txBody>
      </p:sp>
      <p:sp>
        <p:nvSpPr>
          <p:cNvPr id="56" name=""/>
          <p:cNvSpPr txBox="1"/>
          <p:nvPr/>
        </p:nvSpPr>
        <p:spPr>
          <a:xfrm>
            <a:off x="380880" y="1294920"/>
            <a:ext cx="8305920" cy="48308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Europea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the belief that one race is superior to othe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Europe</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1800s- Now</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y: The Europeans were racist against “lesser peoples” or the “weak” and felt they were superior; this idea led to Imperialism and many other issues like Slavery, Segregation, Apartheid, etc.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pplication of the Theory of Evolution to society and humans led to “Imperialism” aka the superior Europeans taking ov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14:36:10Z</dcterms:created>
  <dc:creator>Windows User</dc:creator>
  <dc:description/>
  <dc:language>en-US</dc:language>
  <cp:lastModifiedBy>Windows User</cp:lastModifiedBy>
  <cp:lastPrinted>2012-03-06T13:56:55Z</cp:lastPrinted>
  <dcterms:modified xsi:type="dcterms:W3CDTF">2012-03-06T14:07:10Z</dcterms:modified>
  <cp:revision>30</cp:revision>
  <dc:subject/>
  <dc:title>Leading up to WWI</dc:title>
</cp:coreProperties>
</file>